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312F-4940-4FDD-92D8-8EB2981806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F4AE-F61D-4AA6-8FD4-6BFB82B55A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5C7F-D3A6-4F60-963E-E730B9267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D84-5557-48A9-9DDF-9CE1FB24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96C-9113-4E08-929B-FC88F44F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214-D913-44C6-AB18-F93A3642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F30-0607-45D3-9F9F-91B1CB3D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0AA2-EC9E-45D4-8300-C4650B57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98EC-D54A-4507-B139-92B8156E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FAEF-F095-484B-8B07-1848E26A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24D0-8373-4A71-8849-5B6C7DDE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0EFF-C841-4FDD-A4FF-6135DFAF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1E9C-A996-4E51-95A5-AE5ACADB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DA46-317A-43B6-BFE8-36A6C309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857-72DE-4DD2-A9CA-289A5103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82C3-3CB3-4709-BEA3-A18A9BA8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8564-FB49-4A5D-87C8-E1733FD9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50CE-A769-4C5E-B5C0-156C4A3A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C02F-E634-4047-86B6-666B3475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6FD7-2DA2-4017-81A0-00C86A48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955-3DA4-49CA-BDA0-F8D03F02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CAE-6AD4-41A8-AC6E-3927A22B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40E-95A5-4FBF-BA10-1DDE2635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42D-6882-4976-B1D4-7C29FC73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850A-01BC-4A56-9627-4F94BF78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0F1-3C03-4CE5-B0F9-8AE88BE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B18-E7E2-4539-AE88-5C4B4034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EC00-87B7-43FC-9546-C51D1A8FE3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1467-285D-405E-B37A-4C0F35B7A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валева О.А. г.Караганда КШДС №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Тимофеева С.А. Литвиновский детски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Решить уравнение х²=2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 и 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6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Прямоугольник 42"/>
          <p:cNvSpPr/>
          <p:nvPr/>
        </p:nvSpPr>
        <p:spPr>
          <a:xfrm>
            <a:off x="3112560" y="114300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Bookman Old Style"/>
              </a:rPr>
              <a:t>Решить уравнение х²=1,69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√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9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2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03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09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15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21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6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Прямоугольник 42"/>
          <p:cNvSpPr/>
          <p:nvPr/>
        </p:nvSpPr>
        <p:spPr>
          <a:xfrm>
            <a:off x="3087720" y="11430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(3√7)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4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44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50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56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62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Прямоугольник 42"/>
          <p:cNvSpPr/>
          <p:nvPr/>
        </p:nvSpPr>
        <p:spPr>
          <a:xfrm>
            <a:off x="3100680" y="114300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√2 √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8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85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91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6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97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2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03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Прямоугольник 42"/>
          <p:cNvSpPr/>
          <p:nvPr/>
        </p:nvSpPr>
        <p:spPr>
          <a:xfrm>
            <a:off x="3089160" y="1143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Вычислить: √2 +√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2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5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1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7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38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44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9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Прямоугольник 42"/>
          <p:cNvSpPr/>
          <p:nvPr/>
        </p:nvSpPr>
        <p:spPr>
          <a:xfrm>
            <a:off x="1643040" y="11430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х² = - 1,69</a:t>
            </a:r>
            <a:r>
              <a:rPr b="1" lang="ru-RU" sz="2000" spc="-1" strike="noStrike">
                <a:solidFill>
                  <a:srgbClr val="1f497d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т реш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7 и -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50"/>
          <p:cNvSpPr/>
          <p:nvPr/>
        </p:nvSpPr>
        <p:spPr>
          <a:xfrm>
            <a:off x="207180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,7 и – 1,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2,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6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6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67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73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8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79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85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0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Прямоугольник 42"/>
          <p:cNvSpPr/>
          <p:nvPr/>
        </p:nvSpPr>
        <p:spPr>
          <a:xfrm>
            <a:off x="2000160" y="1143000"/>
            <a:ext cx="57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Решить уравнение   х²=2,89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авильных отве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6357960" y="2349360"/>
            <a:ext cx="1714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687240" y="85716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Bookman Old Style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69840">
            <a:solidFill>
              <a:srgbClr val="c050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_osh"/>
          <p:cNvSpPr/>
          <p:nvPr/>
        </p:nvSpPr>
        <p:spPr>
          <a:xfrm>
            <a:off x="928800" y="4645080"/>
            <a:ext cx="128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daktor.ru/novaya-versiya-konstruktora-testov-ot-a-n-komarovskog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71840" y="4714920"/>
            <a:ext cx="3643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ведите фамилию и им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84360" y="12859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63680" y="278604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По теме «Арифметический квадратный корен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Ковалева О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Тимофеева С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107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108" name="Freeform 22"/>
              <p:cNvSpPr/>
              <p:nvPr/>
            </p:nvSpPr>
            <p:spPr>
              <a:xfrm>
                <a:off x="228600" y="919080"/>
                <a:ext cx="461880" cy="3571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>
                <a:off x="250920" y="995760"/>
                <a:ext cx="111600" cy="22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>
                <a:off x="250920" y="1228680"/>
                <a:ext cx="3636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>
                <a:off x="429480" y="1097640"/>
                <a:ext cx="5652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27"/>
              <p:cNvSpPr/>
              <p:nvPr/>
            </p:nvSpPr>
            <p:spPr>
              <a:xfrm>
                <a:off x="504000" y="1123560"/>
                <a:ext cx="2628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116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3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1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2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1"/>
          <p:cNvSpPr/>
          <p:nvPr/>
        </p:nvSpPr>
        <p:spPr>
          <a:xfrm>
            <a:off x="2286000" y="3919680"/>
            <a:ext cx="414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1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2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(1+√3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(1-√3)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0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0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1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2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√</a:t>
            </a:r>
            <a:r>
              <a:rPr b="1" lang="en-US" sz="2800" spc="-1" strike="noStrike">
                <a:solidFill>
                  <a:srgbClr val="1f497d"/>
                </a:solidFill>
                <a:latin typeface="Bookman Old Style"/>
              </a:rPr>
              <a:t>x</a:t>
            </a: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=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 и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Bookman Old Style"/>
              </a:rPr>
              <a:t>Решить уравнение х²=3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валева Ольга Александровна Тимофеева Светлана Александровна</dc:creator>
  <dc:description>Работает в MS PowerPoint 2003 и 2007</dc:description>
  <dc:language>en-US</dc:language>
  <cp:lastModifiedBy>Win</cp:lastModifiedBy>
  <dcterms:modified xsi:type="dcterms:W3CDTF">2012-10-20T14:07:58Z</dcterms:modified>
  <cp:revision>24</cp:revision>
  <dc:subject>Арифметический квадратный корень</dc:subject>
  <dc:title>Тренажер для учащихся</dc:title>
</cp:coreProperties>
</file>